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704-278B-4136-83B7-BFF29F37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E69-4487-4E7D-9DEA-5C0F945B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DF0-9308-4724-A93D-4E00BD8D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F3E-25D9-4387-9B11-8E608C29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E6B-91B7-4A34-9C9A-2F8C8A48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3D9-180D-4AA3-8F8B-1A436AB2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9C0-AC03-4DCB-A68A-E0374ABB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620-EC16-4FF8-8127-65CA3798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1BE-26F2-4BD6-B926-5CBF2FAB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750-35D9-4E52-B5A0-DD2142D2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75B-303A-41CA-9400-817C608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033-35F8-4E98-AE57-0080D9BF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E633-B329-4662-A6DD-C6962AC39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pemberton.html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1295280"/>
            <a:ext cx="40388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ca Cola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571500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rdan 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419720"/>
            <a:ext cx="3353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Free play musi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Depth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4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emberton"/>
          <p:cNvPicPr/>
          <p:nvPr/>
        </p:nvPicPr>
        <p:blipFill>
          <a:blip r:embed="rId1"/>
          <a:stretch/>
        </p:blipFill>
        <p:spPr>
          <a:xfrm>
            <a:off x="0" y="0"/>
            <a:ext cx="2552760" cy="37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4419720"/>
            <a:ext cx="3200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ohn Pember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pemberton.html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ave 10% With Promo Code COKEGEAR10"/>
          <p:cNvPicPr/>
          <p:nvPr/>
        </p:nvPicPr>
        <p:blipFill>
          <a:blip r:embed="rId3"/>
          <a:stretch/>
        </p:blipFill>
        <p:spPr>
          <a:xfrm>
            <a:off x="6172200" y="457200"/>
            <a:ext cx="1486080" cy="787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Mycoke"/>
          <p:cNvPicPr/>
          <p:nvPr/>
        </p:nvPicPr>
        <p:blipFill>
          <a:blip r:embed="rId4"/>
          <a:stretch/>
        </p:blipFill>
        <p:spPr>
          <a:xfrm>
            <a:off x="5181480" y="1523880"/>
            <a:ext cx="1924200" cy="865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86200" y="3505320"/>
            <a:ext cx="4495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 Col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y C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ca-cola.com/en/index.html 2/28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ca 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Pemberton created the original formula in 188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31 in Knoxville ,Georg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88 he sold of a sum 1,750 of coca 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88 later that year Pemberton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ggs Candler gained ownership of the entire enterprise b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John Pembe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put in cocaine, kola nuts a rich source of caffeine and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son sold bottles and sold syrup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05 they had to stop putting cocaine and kola nuts and put in citric and a variety of fruit flav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Pemberton started coca cola with syrup and brass ke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lanta forbid the sale of alcohol in 1888 Pemberton changed the formula and began selling only coca syr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06Z</dcterms:created>
  <dc:creator>install</dc:creator>
  <dc:description/>
  <dc:language>en-US</dc:language>
  <cp:lastModifiedBy>install</cp:lastModifiedBy>
  <dcterms:modified xsi:type="dcterms:W3CDTF">2011-03-11T18:31:49Z</dcterms:modified>
  <cp:revision>9</cp:revision>
  <dc:subject/>
  <dc:title>Slide 1</dc:title>
</cp:coreProperties>
</file>